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1D5-DD7D-4673-986B-F89459FB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00C-D22B-40BA-B273-F5E7F353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2A2-C5D0-461C-8FD2-7CF990E5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1D5-E2AA-4806-A776-D14CC04E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926-D81D-411F-AFBF-7C35E82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314-8111-45A5-A119-6C7176E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935-4892-44F1-86D8-EA5B2209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2E6-7611-4CB7-A0D1-335FD22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8B4-9EED-47BC-852F-C0F343A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3A1-B721-4480-A476-D335AA3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CDD-0069-44A5-AF74-8225AC5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DFF-D73B-4315-9D16-90A844B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2CA3-B2BD-4ACA-ACFE-FA49F5B9F624}" type="slidenum">
              <a:rPr b="0" lang="es-C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916280"/>
            <a:ext cx="8075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600" spc="-1" strike="noStrike">
                <a:solidFill>
                  <a:srgbClr val="000000"/>
                </a:solidFill>
                <a:latin typeface="Arial"/>
                <a:ea typeface="Arial"/>
              </a:rPr>
              <a:t>UML</a:t>
            </a:r>
            <a:endParaRPr b="0" lang="en-US" sz="1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1628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laciones entre cla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relacionar dos o más clases cada una con características y objetivos diferentes se debe tener en cuenta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cardinalidad de las relaciones, este término indica el grado y nivel de dependencia, se anotan en cada extremo de la relación y éstas pueden ser: o uno o muchos: 1..* (1..n) o 0 o muchos: 0..* (0..n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-Asociació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relación entre clases conocida como Asociación, permite asociar objetos que colaboran entre sí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4788000" y="4365720"/>
            <a:ext cx="280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" name="5 Conector recto de flecha"/>
          <p:cNvCxnSpPr/>
          <p:nvPr/>
        </p:nvCxnSpPr>
        <p:spPr>
          <a:xfrm>
            <a:off x="5148360" y="4653000"/>
            <a:ext cx="194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341360"/>
            <a:ext cx="8136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-Instanciación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ceso de crear objetos pertenecientes a una clase se denomina instanciar, donde los objetos son las instancias de la clase a la que pertenecen. Se usa una flecha punteada para mostrar los objetos como instancias de las cl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7 Rectángulo"/>
          <p:cNvSpPr/>
          <p:nvPr/>
        </p:nvSpPr>
        <p:spPr>
          <a:xfrm>
            <a:off x="539640" y="5157720"/>
            <a:ext cx="1944720" cy="574920"/>
          </a:xfrm>
          <a:prstGeom prst="rect">
            <a:avLst/>
          </a:prstGeom>
          <a:solidFill>
            <a:srgbClr val="c6d9f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8 Rectángulo"/>
          <p:cNvSpPr/>
          <p:nvPr/>
        </p:nvSpPr>
        <p:spPr>
          <a:xfrm>
            <a:off x="4643280" y="5084640"/>
            <a:ext cx="38163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laudia Restrepo: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9 Rectángulo"/>
          <p:cNvSpPr/>
          <p:nvPr/>
        </p:nvSpPr>
        <p:spPr>
          <a:xfrm>
            <a:off x="4643280" y="5732640"/>
            <a:ext cx="3816360" cy="43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lga Lucia Velásquez: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AutoShape 6"/>
          <p:cNvCxnSpPr>
            <a:stCxn id="81" idx="1"/>
            <a:endCxn id="80" idx="3"/>
          </p:cNvCxnSpPr>
          <p:nvPr/>
        </p:nvCxnSpPr>
        <p:spPr>
          <a:xfrm flipH="1">
            <a:off x="2483640" y="5299560"/>
            <a:ext cx="2159640" cy="14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4" name="AutoShape 7"/>
          <p:cNvCxnSpPr/>
          <p:nvPr/>
        </p:nvCxnSpPr>
        <p:spPr>
          <a:xfrm flipH="1" flipV="1">
            <a:off x="2483640" y="5515920"/>
            <a:ext cx="214884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MPLO 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Clase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Una clase describe un grupo de objetos que tienen características y comportamientos similares. Las estructuras o propiedades de la clase se denomina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tribu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y el comportamient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operacion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. En general el nombre de una clase debe iniciar con letra mayúsc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773360"/>
            <a:ext cx="8353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Un diagrama de clases representa las clases que serán utilizadas dentro del sistema y las relaciones que existen entre ellas.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  <a:ea typeface="MS Mincho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a notación gráfica de una clase es un rectángulo que contiene el nombre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11 Rectángulo"/>
          <p:cNvSpPr/>
          <p:nvPr/>
        </p:nvSpPr>
        <p:spPr>
          <a:xfrm>
            <a:off x="5003640" y="4941720"/>
            <a:ext cx="3024360" cy="790920"/>
          </a:xfrm>
          <a:prstGeom prst="rect">
            <a:avLst/>
          </a:prstGeom>
          <a:solidFill>
            <a:srgbClr val="c6d9f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tributos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os atributos o características de una clase pueden ser de tres tipo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  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-public (+)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será visible tanto dentro como fuera de la clase, es decir, es accesible desde todos lado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 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-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private (-)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sólo será accesible desde dentro de la clase (sólo sus métodos lo pueden accesar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-protected (#)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no será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ccesible desde fuera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os atributos se representan gráfica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encerrados dentro de un rectángulo debajo d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nombre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4211640" y="4869000"/>
            <a:ext cx="2160720" cy="151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1 Rectángulo"/>
          <p:cNvSpPr/>
          <p:nvPr/>
        </p:nvSpPr>
        <p:spPr>
          <a:xfrm>
            <a:off x="4211640" y="4508640"/>
            <a:ext cx="21607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" name="13 Conector recto de flecha"/>
          <p:cNvCxnSpPr/>
          <p:nvPr/>
        </p:nvCxnSpPr>
        <p:spPr>
          <a:xfrm>
            <a:off x="5867280" y="5444640"/>
            <a:ext cx="13694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14 Conector recto de flecha"/>
          <p:cNvCxnSpPr/>
          <p:nvPr/>
        </p:nvCxnSpPr>
        <p:spPr>
          <a:xfrm flipV="1">
            <a:off x="5867280" y="5589000"/>
            <a:ext cx="136944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21 CuadroTexto"/>
          <p:cNvSpPr/>
          <p:nvPr/>
        </p:nvSpPr>
        <p:spPr>
          <a:xfrm>
            <a:off x="730872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Se puede definir un tipo de dato para cada atributo, por ejemplo el atribut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eda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de la clas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perso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puede ser del tipo numéric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Operaciones 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as operaciones son funciones o     transformaciones que se aplican a todos los objetos de una clase. La operación debe ser una acción ejecutada por el objeto o sobre el obje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: Jugar, Estudiar, Trabajar, son operaciones de la clase Person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operaciones deben ser únicas dentro de una misma cla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se debe utilizar el mismo nombre en operaciones que tengan significados diferen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267920"/>
            <a:ext cx="8280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operaciones pueden tener argumentos, 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ir, una lista de parámetros y pue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mbién devolver resultados. Las operaci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corporan en la tercera sección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3 Rectángulo"/>
          <p:cNvSpPr/>
          <p:nvPr/>
        </p:nvSpPr>
        <p:spPr>
          <a:xfrm>
            <a:off x="3132000" y="3716280"/>
            <a:ext cx="187164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4 Rectángulo"/>
          <p:cNvSpPr/>
          <p:nvPr/>
        </p:nvSpPr>
        <p:spPr>
          <a:xfrm>
            <a:off x="3132000" y="4292640"/>
            <a:ext cx="1871640" cy="115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5 Rectángulo"/>
          <p:cNvSpPr/>
          <p:nvPr/>
        </p:nvSpPr>
        <p:spPr>
          <a:xfrm>
            <a:off x="3132000" y="5445000"/>
            <a:ext cx="1871640" cy="1224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udi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baj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7 Conector recto de flecha"/>
          <p:cNvCxnSpPr/>
          <p:nvPr/>
        </p:nvCxnSpPr>
        <p:spPr>
          <a:xfrm>
            <a:off x="5003640" y="4076280"/>
            <a:ext cx="2161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8 Conector recto de flecha"/>
          <p:cNvCxnSpPr/>
          <p:nvPr/>
        </p:nvCxnSpPr>
        <p:spPr>
          <a:xfrm>
            <a:off x="5003280" y="4797000"/>
            <a:ext cx="15850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9 Conector recto de flecha"/>
          <p:cNvCxnSpPr/>
          <p:nvPr/>
        </p:nvCxnSpPr>
        <p:spPr>
          <a:xfrm flipV="1">
            <a:off x="5003280" y="5589000"/>
            <a:ext cx="1585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14 CuadroTexto"/>
          <p:cNvSpPr/>
          <p:nvPr/>
        </p:nvSpPr>
        <p:spPr>
          <a:xfrm>
            <a:off x="7236000" y="38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5 CuadroTexto"/>
          <p:cNvSpPr/>
          <p:nvPr/>
        </p:nvSpPr>
        <p:spPr>
          <a:xfrm>
            <a:off x="665964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6 CuadroTexto"/>
          <p:cNvSpPr/>
          <p:nvPr/>
        </p:nvSpPr>
        <p:spPr>
          <a:xfrm>
            <a:off x="6732720" y="551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CIONES (Méto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28:05Z</dcterms:created>
  <dc:creator>marjoriebedoya</dc:creator>
  <dc:description/>
  <dc:language>en-US</dc:language>
  <cp:lastModifiedBy>Ospina Rios</cp:lastModifiedBy>
  <dcterms:modified xsi:type="dcterms:W3CDTF">2013-03-19T06:26:08Z</dcterms:modified>
  <cp:revision>106</cp:revision>
  <dc:subject/>
  <dc:title>ESTUDIANTES MATRICULADOS  2010-02 ROBLEDO - FRATERNIDAD</dc:title>
</cp:coreProperties>
</file>